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7751-F086-483F-9F68-4C60ABBB0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BC3E-6D74-4458-834C-F59C9BCE9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71FD-A970-4DD5-93B5-DB6F16E15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420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420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E460-8214-46BC-9107-BF1B67F4D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5120" y="270000"/>
            <a:ext cx="830736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932C-E5CD-4033-A5B6-16927EED7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420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2920" y="134136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420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2920" y="3785400"/>
            <a:ext cx="26748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9EDF-73EA-4B2A-9D83-A18531DA9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0ECB-3771-403E-A20C-4AC5C2870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7913-FA5B-444A-AAA9-D51E6DD90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5120" y="270000"/>
            <a:ext cx="8307360" cy="44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CCD4-4296-42FE-BD2B-F909EE281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51A3-A316-44C6-A987-D0EC95A24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2120" y="378540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9C1B-E870-45A1-AA36-4AA1EB783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5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2120" y="1341360"/>
            <a:ext cx="40539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20" y="3785400"/>
            <a:ext cx="83073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2087-FDBB-41FB-A8F4-3A2B36889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59480"/>
            <a:ext cx="9148680" cy="398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4360" y="6462720"/>
            <a:ext cx="1739880" cy="395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588000" y="6208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F Tech Jamboree #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7240" cy="76320"/>
          </a:xfrm>
          <a:prstGeom prst="rect">
            <a:avLst/>
          </a:prstGeom>
          <a:solidFill>
            <a:srgbClr val="ff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494080" y="6553080"/>
            <a:ext cx="316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Osaka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Osaka"/>
              </a:rPr>
              <a:t>2006. Renesas Technology Corp.,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66600" y="6524640"/>
            <a:ext cx="496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F8B6-E3B6-428D-8EA6-A1A8271A5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5120" y="1341360"/>
            <a:ext cx="8307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911920"/>
            <a:ext cx="9148680" cy="946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8680" cy="1568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498600" y="5473440"/>
            <a:ext cx="10634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960" y="6480000"/>
            <a:ext cx="316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Osaka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Osaka"/>
              </a:rPr>
              <a:t>2006. Renesas Technology Corp.,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98240" y="1798200"/>
            <a:ext cx="83293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9040" y="2636640"/>
            <a:ext cx="8329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_EMBED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4869000"/>
            <a:ext cx="83296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ルネサスソリューションズ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宗像尚郎 （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unakata.hisao@renesas.com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4221000"/>
            <a:ext cx="763272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組み込み界でありがちな愚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開発コミュニティの中では “組み込み” は亜流組み込み開発者の要求はあまり聞いてもらえ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kernel 2.6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は潤沢なリソースが使える環境を想定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しているので 組み込み向きでは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メインラインの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kernel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開発ポリシーと共存できる形で</a:t>
            </a:r>
            <a:br>
              <a:rPr sz="2400"/>
            </a:b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組み込み向けの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Profiling 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を導入してもらうには 何を</a:t>
            </a:r>
            <a:br>
              <a:rPr sz="2400"/>
            </a:br>
            <a:r>
              <a:rPr b="0" lang="ja-JP" sz="2400" spc="-1" strike="noStrike">
                <a:solidFill>
                  <a:srgbClr val="ff0000"/>
                </a:solidFill>
                <a:latin typeface="Tahoma"/>
              </a:rPr>
              <a:t>とっかかりにすれば良いのか ・・・・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05880" cy="571356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468360" y="2825640"/>
            <a:ext cx="8280360" cy="1079640"/>
            <a:chOff x="468360" y="2825640"/>
            <a:chExt cx="8280360" cy="1079640"/>
          </a:xfrm>
        </p:grpSpPr>
        <p:sp>
          <p:nvSpPr>
            <p:cNvPr id="93" name=""/>
            <p:cNvSpPr/>
            <p:nvPr/>
          </p:nvSpPr>
          <p:spPr>
            <a:xfrm>
              <a:off x="468360" y="2825640"/>
              <a:ext cx="8280360" cy="1079640"/>
            </a:xfrm>
            <a:prstGeom prst="roundRect">
              <a:avLst>
                <a:gd name="adj" fmla="val 1092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9640" y="2924280"/>
              <a:ext cx="813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kernel configuration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に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config_embedded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という項目がある</a:t>
              </a:r>
              <a:br>
                <a:rPr sz="2400"/>
              </a:b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（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kernel 2.6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から追加された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889440" y="5056200"/>
            <a:ext cx="4824360" cy="7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何を設定する </a:t>
            </a: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一部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kernel config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設定を拡張するも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組込系向けに必ずしも必要の無いオプションを選択し</a:t>
            </a:r>
            <a:br>
              <a:rPr sz="2400"/>
            </a:b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チューニングで切るようにするためのオプション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あ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基本的にわかっている人だけが使うことを想定し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kerne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内のアルゴリズムには影響し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age size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どのパラメータ設定にも影響し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42920" y="2781360"/>
            <a:ext cx="7201080" cy="2087640"/>
            <a:chOff x="1042920" y="2781360"/>
            <a:chExt cx="7201080" cy="2087640"/>
          </a:xfrm>
        </p:grpSpPr>
        <p:sp>
          <p:nvSpPr>
            <p:cNvPr id="99" name=""/>
            <p:cNvSpPr/>
            <p:nvPr/>
          </p:nvSpPr>
          <p:spPr>
            <a:xfrm>
              <a:off x="1042920" y="3069000"/>
              <a:ext cx="7201080" cy="1726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2000" y="3069000"/>
              <a:ext cx="216036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UID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M8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KALLSY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HOTPLU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PRINT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03640" y="2781360"/>
              <a:ext cx="216036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LF_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BASE_F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FU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P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HM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16440" y="3070440"/>
              <a:ext cx="328464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FUN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LAB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LO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C_ALIGN_JUM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導入された経緯をさかのぼってみる ｰ ①</a:t>
            </a:r>
            <a:br>
              <a:rPr sz="2800"/>
            </a:b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［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http://lkml.org/lkml/2003/5/16/158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1320840"/>
            <a:ext cx="7934400" cy="4772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900000" y="3429000"/>
            <a:ext cx="7704360" cy="2592360"/>
            <a:chOff x="900000" y="3429000"/>
            <a:chExt cx="7704360" cy="2592360"/>
          </a:xfrm>
        </p:grpSpPr>
        <p:sp>
          <p:nvSpPr>
            <p:cNvPr id="106" name=""/>
            <p:cNvSpPr/>
            <p:nvPr/>
          </p:nvSpPr>
          <p:spPr>
            <a:xfrm>
              <a:off x="900000" y="3429000"/>
              <a:ext cx="7704360" cy="2592360"/>
            </a:xfrm>
            <a:prstGeom prst="roundRect">
              <a:avLst>
                <a:gd name="adj" fmla="val 681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71640" y="3573360"/>
              <a:ext cx="7561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kernel 2.5.68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当時に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FUTEX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機能の組み込みに関連し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FUTEX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は組み込みには必要ない（フットプリントが大きい）</a:t>
              </a:r>
              <a:br>
                <a:rPr sz="2400"/>
              </a:b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という意見に対し、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lan Cox </a:t>
              </a: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が “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inux </a:t>
              </a: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の組み込み応用も大事だから…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.”  </a:t>
              </a: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という発言をしている</a:t>
              </a:r>
              <a:br>
                <a:rPr sz="2400"/>
              </a:b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当時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Alan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は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no-MMU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サポートを推進していたので、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FUTEX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が使えない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CPU </a:t>
              </a:r>
              <a:r>
                <a:rPr b="0" lang="zh-CN" sz="2400" spc="-1" strike="noStrike">
                  <a:solidFill>
                    <a:srgbClr val="3333cc"/>
                  </a:solidFill>
                  <a:latin typeface="Tahoma"/>
                </a:rPr>
                <a:t>サポートを考慮してくれていた </a:t>
              </a: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導入された経緯をさかのぼってみる ｰ ②</a:t>
            </a:r>
            <a:br>
              <a:rPr sz="2800"/>
            </a:b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［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http://lkml.org/lkml/2003/5/16/191</a:t>
            </a:r>
            <a:r>
              <a:rPr b="0" lang="ja-JP" sz="2800" spc="-1" strike="noStrike">
                <a:solidFill>
                  <a:srgbClr val="ff0000"/>
                </a:solidFill>
                <a:latin typeface="Tahoma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1189080"/>
            <a:ext cx="8353440" cy="497664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755640" y="1844640"/>
            <a:ext cx="7848720" cy="2592360"/>
            <a:chOff x="755640" y="1844640"/>
            <a:chExt cx="7848720" cy="2592360"/>
          </a:xfrm>
        </p:grpSpPr>
        <p:sp>
          <p:nvSpPr>
            <p:cNvPr id="111" name=""/>
            <p:cNvSpPr/>
            <p:nvPr/>
          </p:nvSpPr>
          <p:spPr>
            <a:xfrm>
              <a:off x="755640" y="1844640"/>
              <a:ext cx="7848720" cy="2592360"/>
            </a:xfrm>
            <a:prstGeom prst="roundRect">
              <a:avLst>
                <a:gd name="adj" fmla="val 681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6920" y="1916280"/>
              <a:ext cx="770580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Andrew Morton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が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kernel config menu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を見直して</a:t>
              </a:r>
              <a:br>
                <a:rPr sz="2400"/>
              </a:b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組み込み用に 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kernel 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の一部の機能を 切り離す設定を</a:t>
              </a:r>
              <a:br>
                <a:rPr sz="2400"/>
              </a:b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追加する事に合意し、 現在のメニュー構造が導入され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⇒ </a:t>
              </a: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その後 組み込みの要求に応じて選択可能な項目が</a:t>
              </a:r>
              <a:br>
                <a:rPr sz="2400"/>
              </a:br>
              <a:r>
                <a:rPr b="0" lang="ja-JP" sz="2400" spc="-1" strike="noStrike">
                  <a:solidFill>
                    <a:srgbClr val="3333cc"/>
                  </a:solidFill>
                  <a:latin typeface="Tahoma"/>
                </a:rPr>
                <a:t>　　追加されてきた （ようだ）。　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あまり深く考えず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.... </a:t>
              </a:r>
              <a:br>
                <a:rPr sz="2400"/>
              </a:b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　　それならここに入れときましょう　という吹きだまり状況 </a:t>
              </a:r>
              <a:r>
                <a:rPr b="0" lang="ja-JP" sz="24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現状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onfig_embedded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総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積極的な使われ方（受け止められ方）はされていないよう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一部機能を使わなくするための拡張オプションという性格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組み込みで欲しい機能、設定を追加する目的では使われてい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現在の設定内容は必ずしも “組み込み” の要求を反映していない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⇒ 例えば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PTL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を使うために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FUTE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サポートは必須なのだし…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　どちらかというと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o-MMU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型のサポート用の設定の色彩が強い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組み込み” も多様化 → 一言でグループ化できなくなっ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H7785 (&gt;1,000 MIPS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、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H7751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430 MI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）、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H7619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00MIP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ulti-Core CPU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、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MP CPU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、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Numa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5120" y="270000"/>
            <a:ext cx="830736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この先 どのようにもっていきたい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5120" y="1052640"/>
            <a:ext cx="849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既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kernel 2.6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でサポートされている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onfig_embedded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設定オプションをどう活用するか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という問題提起で、積極的に 組み込み向けの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プロファイリングをメインラインに反映できないか…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現在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kernel tuning parameter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及び今後の拡張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として 組み込みの要求プロファイルを何種類か提案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することができないか…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次回以降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Jamboree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などを活用して意見集約した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2:36:43Z</dcterms:created>
  <dc:creator>端山貴也</dc:creator>
  <dc:description/>
  <dc:language>en-US</dc:language>
  <cp:lastModifiedBy>munakata</cp:lastModifiedBy>
  <dcterms:modified xsi:type="dcterms:W3CDTF">2006-07-13T04:01:53Z</dcterms:modified>
  <cp:revision>14</cp:revision>
  <dc:subject/>
  <dc:title>CONFIG_EMBEDDED</dc:title>
</cp:coreProperties>
</file>